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ECF1-056F-4E2B-BA99-F1FF4DD3C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AE024-7789-4BA6-9A01-6F3D23D88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4990-8A00-4951-AAAC-FBC76DAEC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C0C4-8014-4A4E-8D84-698FC19086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C100-1A94-4BB8-985A-BDDCF35D5D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DDBF-F2E8-4F95-85DE-91AC694B7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FD43-E152-4187-8975-06CB0D436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94AA-6C95-452B-A74F-BB55CF934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726D-7A95-4B57-9DC5-C61D8067B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E1F6-00F1-4B1E-BF51-AF02788CD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563A-320F-47E9-A7B4-71C779BAA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59A5-4E15-4DC4-81F1-521AC0BFA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0E23-B8FB-41BD-A7B0-D6C3FA0265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1442-F3F9-4FD9-B290-DB176AC8D0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26D4-25C9-4C9B-A8DA-08DFB25759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4CAF-A982-4ADF-A68A-E4D0BA0A94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80880" y="6858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 Feedback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about a question you have from 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’m wondering about….”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I’m confused about….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would like to learn more about…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it on a sticky note, and attach it to your gly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9140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ore connections between key components of algebraic thinking and proportional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key components of algebraic thinking and proportional reasoning in the curriculum expectations for a specific course (participant to cho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examples of generalization and justification in studen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concrete models of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connections between patterning and genera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8EA1-7600-445C-AA7A-39DBAA4882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8897-B545-44D9-9E7E-84C8A7B7AC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onsider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e sticker dot graph of courses our group created on the first day showing what we have taught or will be teaching this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reat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‘course’ groups of 3 or 4 participants to look at components of algebraic thinking and proportional reasoning in the curriculum expec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7F3C-1504-45AB-982E-77D92008FA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9C20-8FCE-4DED-89E3-B2C2FF195C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ing half of a sheet of chart paper, create a Venn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the Venn Diagram to illustrate similarities and differences between the key mathematical ideas related to Proportional Reasoning and Algebraic Thinking </a:t>
            </a:r>
            <a:r>
              <a:rPr b="1" i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in general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(not related to your specific cour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hink about: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formation from our plenary sessions and the Big Ideas in the CAMPPP Program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5DC7-B183-4A56-8232-11A1B9F2A2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E40E-7CF5-461D-89F4-FC1442EB7C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change Venn Diagrams with a neighbouring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post-it note to provide feedback: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“We really like….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post-it note to provide feedback: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“We are wondering….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turn Venn Diagrams to original tabl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1C11-9B32-428E-ACB0-476F6A4F18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55FA-B834-4FF6-890C-B1B010BFF1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cus now on the course you chose to work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p out the expectations related to Proportional Reasoning and Algebraic Thinking on your Venn Diagram – look for similarities/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st your Venn Diagram when your group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Resources: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Hard copies of curriculum documents are available as well as on-line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4A3E-29D8-4515-AE5E-30DB57AA8E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961D-B464-43B4-9B62-91F3F6085C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discuss examples of Algebraic Thinking in student samples from the “Cube Sticker Probl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1304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 to Generalization Strategies and Justification Framework from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13040" indent="-5335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ogether with another pair.  Share and compare your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41CD-7914-4496-A390-A70A04CC12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D709-4603-4E8F-89F2-951B346470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876560" y="1523880"/>
            <a:ext cx="3505320" cy="1066680"/>
            <a:chOff x="4876560" y="1523880"/>
            <a:chExt cx="3505320" cy="1066680"/>
          </a:xfrm>
        </p:grpSpPr>
        <p:sp>
          <p:nvSpPr>
            <p:cNvPr id="81" name=""/>
            <p:cNvSpPr/>
            <p:nvPr/>
          </p:nvSpPr>
          <p:spPr>
            <a:xfrm>
              <a:off x="4952880" y="1523880"/>
              <a:ext cx="3429000" cy="838080"/>
            </a:xfrm>
            <a:prstGeom prst="cloudCallout">
              <a:avLst>
                <a:gd name="adj1" fmla="val -23379"/>
                <a:gd name="adj2" fmla="val 4299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876560" y="2286000"/>
              <a:ext cx="6094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10080" y="175248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Work with a 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CB98-1727-45E0-98F9-3F5CF03AFC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EA31-A525-40E5-92E7-0C069F7D9F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371600"/>
            <a:ext cx="822960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 Viewing the Area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ly, work through the hando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Modeling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Quadratic 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Functions with Square Tile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re your insights, ideas, and questions with yo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5C3C-FD33-46E6-93DC-1D3771EE2A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79E3-A9F7-476D-B7DC-6EAA9E6D4A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7086600" y="175248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6095520" y="1218960"/>
            <a:ext cx="838440" cy="109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09T17:31:10Z</dcterms:modified>
  <cp:revision>23</cp:revision>
  <dc:subject/>
  <dc:title>&lt;Title&gt;</dc:title>
</cp:coreProperties>
</file>